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B348-283D-4E40-80A8-CBA7503A3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DF64-0E93-432A-92B5-A2B2D90AF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938C-6027-4355-A364-082FBB378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B3E3-DF08-4385-B42C-BF21FDEA9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CBD63-7137-497A-B0B2-FA2A7E5CF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992BA-F107-4183-9AF4-4030D94BE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84C97-9EC1-4F68-A21B-00F316608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1BFBA-E1D9-4FAA-A984-EDA5FE870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C7AD5-46E3-4BFC-B667-D5EA6FA1A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2C1BB-01CD-47A7-96C0-EC44C797F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BD06F-7EE2-48A5-BBB8-35FC411E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FED1-F3BF-4C0C-A06D-D0B135B47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E9C4C-93DE-4690-A1CD-CAEBF4827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0CD7D-79B5-4E05-A917-0FB70179D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95020-0693-4732-A55E-7139F14AC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E7B4A-DC87-44D1-BBA7-AB0E066E0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A335D-9A42-4A8D-827E-B5D15935B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7A61-7556-43DA-99CB-DD95BD817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0579-F9CA-4B80-9032-A63859824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90F4-BE34-4125-9025-BE48A3CC2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EE63-8018-40CC-AD30-9B69BE05B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5245-B397-4791-AAF1-4FBBA205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16B2-1178-4573-B683-841285DB1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2A68-C366-4331-9BFC-105E43A6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7218B-5E83-42AB-9DE8-1D1F0FAAB08E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B6AD6-55D4-4E27-B130-5DDC933199EE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6" descr="Картинка 128 из 12931"/>
          <p:cNvPicPr/>
          <p:nvPr/>
        </p:nvPicPr>
        <p:blipFill>
          <a:blip r:embed="rId1"/>
          <a:stretch/>
        </p:blipFill>
        <p:spPr>
          <a:xfrm>
            <a:off x="0" y="0"/>
            <a:ext cx="918036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Заголовок 6" descr=""/>
          <p:cNvPicPr/>
          <p:nvPr/>
        </p:nvPicPr>
        <p:blipFill>
          <a:blip r:embed="rId2"/>
          <a:stretch/>
        </p:blipFill>
        <p:spPr>
          <a:xfrm>
            <a:off x="633240" y="317520"/>
            <a:ext cx="7864560" cy="1262160"/>
          </a:xfrm>
          <a:prstGeom prst="rect">
            <a:avLst/>
          </a:prstGeom>
          <a:ln w="0">
            <a:noFill/>
          </a:ln>
        </p:spPr>
      </p:pic>
      <p:sp>
        <p:nvSpPr>
          <p:cNvPr id="97" name="TextBox 8"/>
          <p:cNvSpPr/>
          <p:nvPr/>
        </p:nvSpPr>
        <p:spPr>
          <a:xfrm>
            <a:off x="928800" y="2714760"/>
            <a:ext cx="721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кое название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98" name="Прямоугольник 4" descr=""/>
          <p:cNvPicPr/>
          <p:nvPr/>
        </p:nvPicPr>
        <p:blipFill>
          <a:blip r:embed="rId3"/>
          <a:stretch/>
        </p:blipFill>
        <p:spPr>
          <a:xfrm>
            <a:off x="2328840" y="1316160"/>
            <a:ext cx="4548240" cy="1347840"/>
          </a:xfrm>
          <a:prstGeom prst="rect">
            <a:avLst/>
          </a:prstGeom>
          <a:ln w="0">
            <a:noFill/>
          </a:ln>
        </p:spPr>
      </p:pic>
      <p:pic>
        <p:nvPicPr>
          <p:cNvPr id="99" name="Прямоугольник 11" descr=""/>
          <p:cNvPicPr/>
          <p:nvPr/>
        </p:nvPicPr>
        <p:blipFill>
          <a:blip r:embed="rId4"/>
          <a:stretch/>
        </p:blipFill>
        <p:spPr>
          <a:xfrm>
            <a:off x="628560" y="3986280"/>
            <a:ext cx="795492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13"/>
          <p:cNvSpPr/>
          <p:nvPr/>
        </p:nvSpPr>
        <p:spPr>
          <a:xfrm>
            <a:off x="3347280" y="6215040"/>
            <a:ext cx="24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Автор: Немчинова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Людмила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Картинка 113 из 129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Заголовок 1" descr=""/>
          <p:cNvPicPr/>
          <p:nvPr/>
        </p:nvPicPr>
        <p:blipFill>
          <a:blip r:embed="rId2"/>
          <a:stretch/>
        </p:blipFill>
        <p:spPr>
          <a:xfrm>
            <a:off x="208080" y="-12600"/>
            <a:ext cx="8727840" cy="20239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457200" y="164304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блемные вопросы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4" name="TextBox 3"/>
          <p:cNvSpPr/>
          <p:nvPr/>
        </p:nvSpPr>
        <p:spPr>
          <a:xfrm>
            <a:off x="387360" y="5214960"/>
            <a:ext cx="885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ые предметы: </a:t>
            </a:r>
            <a:r>
              <a:rPr b="1" lang="ru-RU" sz="2800" spc="-1" strike="noStrike">
                <a:solidFill>
                  <a:srgbClr val="1704a4"/>
                </a:solidFill>
                <a:latin typeface="Times New Roman"/>
                <a:ea typeface="Times New Roman"/>
              </a:rPr>
              <a:t>математика, история, география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и: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1704a4"/>
                </a:solidFill>
                <a:latin typeface="Times New Roman"/>
                <a:ea typeface="Times New Roman"/>
              </a:rPr>
              <a:t>учащиеся 10 - 11 классов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571680" y="2286000"/>
            <a:ext cx="1839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06" name="TextBox 6" descr=""/>
          <p:cNvPicPr/>
          <p:nvPr/>
        </p:nvPicPr>
        <p:blipFill>
          <a:blip r:embed="rId3"/>
          <a:stretch/>
        </p:blipFill>
        <p:spPr>
          <a:xfrm>
            <a:off x="695160" y="2219400"/>
            <a:ext cx="7637760" cy="931680"/>
          </a:xfrm>
          <a:prstGeom prst="rect">
            <a:avLst/>
          </a:prstGeom>
          <a:ln w="0">
            <a:noFill/>
          </a:ln>
        </p:spPr>
      </p:pic>
      <p:sp>
        <p:nvSpPr>
          <p:cNvPr id="107" name="TextBox 7"/>
          <p:cNvSpPr/>
          <p:nvPr/>
        </p:nvSpPr>
        <p:spPr>
          <a:xfrm>
            <a:off x="1857240" y="31431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08" name="TextBox 8" descr=""/>
          <p:cNvPicPr/>
          <p:nvPr/>
        </p:nvPicPr>
        <p:blipFill>
          <a:blip r:embed="rId4"/>
          <a:stretch/>
        </p:blipFill>
        <p:spPr>
          <a:xfrm>
            <a:off x="195120" y="2786040"/>
            <a:ext cx="862020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8" descr="http://im3-tub.yandex.net/i?id=13868954-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TextBox 3"/>
          <p:cNvSpPr/>
          <p:nvPr/>
        </p:nvSpPr>
        <p:spPr>
          <a:xfrm>
            <a:off x="748800" y="357120"/>
            <a:ext cx="500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Дидактические цели проекта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TextBox 8"/>
          <p:cNvSpPr/>
          <p:nvPr/>
        </p:nvSpPr>
        <p:spPr>
          <a:xfrm>
            <a:off x="801360" y="2786040"/>
            <a:ext cx="516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Методические задачи проекта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2" name="TextBox 9"/>
          <p:cNvSpPr/>
          <p:nvPr/>
        </p:nvSpPr>
        <p:spPr>
          <a:xfrm>
            <a:off x="428760" y="3429000"/>
            <a:ext cx="7929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звить у учащихся творческую активность , умение делать обобщения на основе данных , полученных в результате исследований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звить познавательную деятельность учащихся, которая , в свою очередь способствует развитию разносторонней личности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Воспитывать у учащихся стремление к самосовершенствованию, удовлетворению познавательных потребностей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" name="TextBox 12"/>
          <p:cNvSpPr/>
          <p:nvPr/>
        </p:nvSpPr>
        <p:spPr>
          <a:xfrm>
            <a:off x="214200" y="928800"/>
            <a:ext cx="8429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349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Познакомить учащихся с понятием пирамиды, ее  элементами, видами пирамид и их свойствами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buClr>
                <a:srgbClr val="0349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Рассмотреть пирамиды с различных точек зрения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buClr>
                <a:srgbClr val="0349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Познакомить с историей возникновения пирамид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9" descr="http://im7-tub.yandex.net/i?id=6427603-00"/>
          <p:cNvPicPr/>
          <p:nvPr/>
        </p:nvPicPr>
        <p:blipFill>
          <a:blip r:embed="rId1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115" name="TextBox 3"/>
          <p:cNvSpPr/>
          <p:nvPr/>
        </p:nvSpPr>
        <p:spPr>
          <a:xfrm>
            <a:off x="3582720" y="285840"/>
            <a:ext cx="218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 проекте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6" name="TextBox 4"/>
          <p:cNvSpPr/>
          <p:nvPr/>
        </p:nvSpPr>
        <p:spPr>
          <a:xfrm>
            <a:off x="428760" y="1000080"/>
            <a:ext cx="8358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Проект  предназначен  для изучения темы: Тайны пирамид. В ходе проекта учащиеся работают в группах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349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математики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349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историки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349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географы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Прямоугольник 11"/>
          <p:cNvSpPr/>
          <p:nvPr/>
        </p:nvSpPr>
        <p:spPr>
          <a:xfrm>
            <a:off x="428760" y="3286080"/>
            <a:ext cx="828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Выбор группы происходил самостоятельно, по желанию учащихся. Перед рабочими группами ставятся определенные задачи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" descr="262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119" name="TextBox 3"/>
          <p:cNvSpPr/>
          <p:nvPr/>
        </p:nvSpPr>
        <p:spPr>
          <a:xfrm>
            <a:off x="930240" y="500040"/>
            <a:ext cx="375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Задачи по группам</a:t>
            </a:r>
            <a:r>
              <a:rPr b="1" lang="ru-RU" sz="1800" spc="-1" strike="noStrike" u="sng">
                <a:solidFill>
                  <a:srgbClr val="0d0d0d"/>
                </a:solidFill>
                <a:uFillTx/>
                <a:latin typeface="Constanti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Прямоугольник 4"/>
          <p:cNvSpPr/>
          <p:nvPr/>
        </p:nvSpPr>
        <p:spPr>
          <a:xfrm>
            <a:off x="714240" y="1143000"/>
            <a:ext cx="75726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Группа “Математики”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Изучить пирамиду как геометрическое тело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Найти определения пирамиды, которые были сформулированы   древними учеными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равнить современные трактовки с древними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Группа “Историки”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Найти материалы о первых пирамидах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Изучить древние пирамиды с математической точки зрения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формулировать вывод о значимости пирамид с исторической и математической точек зрения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Группа “Географы</a:t>
            </a:r>
            <a:r>
              <a:rPr b="1" i="1" lang="en-US" sz="20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”</a:t>
            </a:r>
            <a:r>
              <a:rPr b="1" i="1" lang="ru-RU" sz="20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Установить  месторасположение  пирамид на Земле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ыяснить высоту каждой пирамиды, определить самую высокую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Исследовать уникальные свойства пирамид. 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формулировать вывод о расположении пирамид на Земле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http://im3-tub.yandex.net/i?id=6321197-04"/>
          <p:cNvPicPr/>
          <p:nvPr/>
        </p:nvPicPr>
        <p:blipFill>
          <a:blip r:embed="rId1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TextBox 3"/>
          <p:cNvSpPr/>
          <p:nvPr/>
        </p:nvSpPr>
        <p:spPr>
          <a:xfrm>
            <a:off x="428760" y="1928880"/>
            <a:ext cx="814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Формы представления результатов исследования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TextBox 4"/>
          <p:cNvSpPr/>
          <p:nvPr/>
        </p:nvSpPr>
        <p:spPr>
          <a:xfrm>
            <a:off x="939600" y="2786040"/>
            <a:ext cx="2560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клет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589320" y="4214880"/>
            <a:ext cx="71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Контроль знаний по пройденному материалу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724680" y="5072040"/>
            <a:ext cx="576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ие проверочной работы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гадывание кроссворда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TextBox 7"/>
          <p:cNvSpPr/>
          <p:nvPr/>
        </p:nvSpPr>
        <p:spPr>
          <a:xfrm>
            <a:off x="730080" y="357120"/>
            <a:ext cx="432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Сроки проведения проекта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7" name="TextBox 8"/>
          <p:cNvSpPr/>
          <p:nvPr/>
        </p:nvSpPr>
        <p:spPr>
          <a:xfrm>
            <a:off x="357120" y="1071720"/>
            <a:ext cx="878688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 предполагается провести в течении 6 уроков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http://im4-tub.yandex.net/i?id=11494299-03"/>
          <p:cNvPicPr/>
          <p:nvPr/>
        </p:nvPicPr>
        <p:blipFill>
          <a:blip r:embed="rId1"/>
          <a:stretch/>
        </p:blipFill>
        <p:spPr>
          <a:xfrm>
            <a:off x="0" y="0"/>
            <a:ext cx="912492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Box 3"/>
          <p:cNvSpPr/>
          <p:nvPr/>
        </p:nvSpPr>
        <p:spPr>
          <a:xfrm>
            <a:off x="1221120" y="285840"/>
            <a:ext cx="683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ff3ca"/>
                </a:solidFill>
                <a:latin typeface="Times New Roman"/>
                <a:ea typeface="Times New Roman"/>
              </a:rPr>
              <a:t>Основная литература для учеников: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428760" y="1000080"/>
            <a:ext cx="84294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5ff3c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ff3ca"/>
                </a:solidFill>
                <a:latin typeface="Times New Roman"/>
                <a:ea typeface="Times New Roman"/>
              </a:rPr>
              <a:t>Погорелов А. В. «Геометрия: учебник для 7 – 11 классов средней школы» , М. : Просвещение, 1992г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ff3ca"/>
                </a:solidFill>
                <a:latin typeface="Times New Roman"/>
                <a:ea typeface="Times New Roman"/>
              </a:rPr>
              <a:t>2. Геометрия, 10 – 11: Учеб. Для общеобразовательных учреждений / Л.С.Атанасян, В. Ф. Бутузов, С. Б. Кадомцев и др. –  М.: Просвещение, 2002 г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ff3ca"/>
                </a:solidFill>
                <a:latin typeface="Times New Roman"/>
                <a:ea typeface="Times New Roman"/>
              </a:rPr>
              <a:t>3. </a:t>
            </a:r>
            <a:r>
              <a:rPr b="0" lang="en-US" sz="2800" spc="-1" strike="noStrike">
                <a:solidFill>
                  <a:srgbClr val="5ff3ca"/>
                </a:solidFill>
                <a:latin typeface="Times New Roman"/>
                <a:ea typeface="Times New Roman"/>
              </a:rPr>
              <a:t>http://www.egyptolog.ru/piramidy/piramidy.htm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ff3ca"/>
                </a:solidFill>
                <a:latin typeface="Times New Roman"/>
                <a:ea typeface="Times New Roman"/>
              </a:rPr>
              <a:t>4. </a:t>
            </a:r>
            <a:r>
              <a:rPr b="0" lang="en-US" sz="2800" spc="-1" strike="noStrike">
                <a:solidFill>
                  <a:srgbClr val="5ff3ca"/>
                </a:solidFill>
                <a:latin typeface="Times New Roman"/>
                <a:ea typeface="Times New Roman"/>
              </a:rPr>
              <a:t>http://rutube.ru/tracks/644773.htm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ff3ca"/>
                </a:solidFill>
                <a:latin typeface="Times New Roman"/>
                <a:ea typeface="Times New Roman"/>
              </a:rPr>
              <a:t>5. </a:t>
            </a:r>
            <a:r>
              <a:rPr b="0" lang="en-US" sz="2800" spc="-1" strike="noStrike">
                <a:solidFill>
                  <a:srgbClr val="5ff3ca"/>
                </a:solidFill>
                <a:latin typeface="Times New Roman"/>
                <a:ea typeface="Times New Roman"/>
              </a:rPr>
              <a:t>http://www.pyramids.ru/EgyptPyr.htm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05:07:57Z</dcterms:created>
  <dc:creator>26533</dc:creator>
  <dc:description/>
  <dc:language>en-US</dc:language>
  <cp:lastModifiedBy>26533</cp:lastModifiedBy>
  <dcterms:modified xsi:type="dcterms:W3CDTF">2010-05-21T05:32:19Z</dcterms:modified>
  <cp:revision>36</cp:revision>
  <dc:subject/>
  <dc:title>       Тема учебного проекта Золотое сечение  </dc:title>
</cp:coreProperties>
</file>